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619-2F29-4804-ABC6-9B2D7059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6B5-07C9-418F-9DDC-8EAB6FF9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5BA-471A-46BF-B00C-3B2243B8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F31-5765-4FFC-95F0-155ED37C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692E-A050-44AF-AB9B-80B94E26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9236-12EA-4A99-B591-5953AB05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9F41-D0FE-4B05-8A6A-370F873D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C361-8FBA-431B-82FF-5A34BA2A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68E0-400C-450B-B374-C2EEBF7F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A411-B083-409F-B2B2-56D8294B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DFDF-2737-48FA-9224-71742C73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334-667B-4C4B-AB77-1B827591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08CD-2FE6-492B-A037-FD300F7C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7F03-1602-434F-A5B6-DE258BC9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6277-B5D2-44F3-935B-3954D07B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BA01-3DAF-404B-AE61-FBCB7898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A629-B314-4205-9A09-3787E433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531-BA93-43DD-8940-775E5049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048-EF52-496F-A706-3719C08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23D-EFA7-4AA7-9EB8-77357D71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C54-4772-448D-9537-BADEFF4A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2D2-FD4E-4958-89C3-1FE1E5D2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5B6-C3E0-4533-BBAA-D319B1FB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19A-97DF-4022-A902-7C7EA8E3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B877-F903-4FE4-BED1-FE684CAFD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4ADF-516B-42E7-BD56-E503CCE0C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CA7A-83E8-4429-81E1-B2742C6F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sson 8-1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98320" y="20970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6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FC71-DAEC-4A9F-B8DD-5D0089A05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le Definition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14440" y="17208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irc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28880" y="1747800"/>
            <a:ext cx="665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t of points coplanar points equidistant from a given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876320" y="2664000"/>
            <a:ext cx="69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iven point is called th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95480" y="3160800"/>
            <a:ext cx="80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from the center to the circle is called th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RADI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"/>
          <p:cNvPicPr/>
          <p:nvPr/>
        </p:nvPicPr>
        <p:blipFill>
          <a:blip r:embed="rId1"/>
          <a:stretch/>
        </p:blipFill>
        <p:spPr>
          <a:xfrm rot="1662600">
            <a:off x="5345280" y="3619080"/>
            <a:ext cx="2736720" cy="2705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9"/>
          <p:cNvSpPr/>
          <p:nvPr/>
        </p:nvSpPr>
        <p:spPr>
          <a:xfrm>
            <a:off x="4065480" y="4498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3992400" y="4425840"/>
            <a:ext cx="1231920" cy="595440"/>
          </a:xfrm>
          <a:prstGeom prst="wedgeRoundRectCallout">
            <a:avLst>
              <a:gd name="adj1" fmla="val 165462"/>
              <a:gd name="adj2" fmla="val 41731"/>
              <a:gd name="adj3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4195800" y="564516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5"/>
          <p:cNvSpPr/>
          <p:nvPr/>
        </p:nvSpPr>
        <p:spPr>
          <a:xfrm>
            <a:off x="6676920" y="4978440"/>
            <a:ext cx="900360" cy="73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6602400" y="4890960"/>
            <a:ext cx="189000" cy="1908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7"/>
          <p:cNvSpPr/>
          <p:nvPr/>
        </p:nvSpPr>
        <p:spPr>
          <a:xfrm>
            <a:off x="4092480" y="5460840"/>
            <a:ext cx="1146240" cy="679680"/>
          </a:xfrm>
          <a:prstGeom prst="wedgeRoundRectCallout">
            <a:avLst>
              <a:gd name="adj1" fmla="val 209694"/>
              <a:gd name="adj2" fmla="val -58175"/>
              <a:gd name="adj3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C7AC-E6ED-43CA-9645-D07530C0E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5826240" y="3332160"/>
            <a:ext cx="2895480" cy="2971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97000" y="173340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Chor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08120" y="1763640"/>
            <a:ext cx="66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gment whose endpoints lie on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7167600" y="4673520"/>
            <a:ext cx="15228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H="1">
            <a:off x="5984280" y="3621240"/>
            <a:ext cx="2113920" cy="5648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 rot="20768400">
            <a:off x="6637320" y="3902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228600" y="224784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cdcc"/>
                </a:solidFill>
                <a:latin typeface="Times New Roman"/>
              </a:rPr>
              <a:t>Diamet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1766880" y="2235240"/>
            <a:ext cx="60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ord that contains the center of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6541920" y="48369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H="1">
            <a:off x="5827320" y="4735440"/>
            <a:ext cx="2895480" cy="0"/>
          </a:xfrm>
          <a:prstGeom prst="line">
            <a:avLst/>
          </a:prstGeom>
          <a:ln w="5724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 flipV="1" rot="10800000">
            <a:off x="309240" y="4993920"/>
            <a:ext cx="13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Sec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1527120" y="499428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that contains a ch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6845400" y="54086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5313240" y="5769000"/>
            <a:ext cx="3391200" cy="109440"/>
          </a:xfrm>
          <a:prstGeom prst="line">
            <a:avLst/>
          </a:prstGeom>
          <a:ln w="38160">
            <a:solidFill>
              <a:srgbClr val="ff7c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209520" y="2738520"/>
            <a:ext cx="14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ang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638360" y="2736720"/>
            <a:ext cx="70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in the plane of the circle that intersects the circle in exactly on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260280" y="354492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oint of Tangenc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287280" y="407340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int where the tangent line intersects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 flipV="1">
            <a:off x="5153040" y="3206880"/>
            <a:ext cx="3759120" cy="23328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7"/>
          <p:cNvSpPr/>
          <p:nvPr/>
        </p:nvSpPr>
        <p:spPr>
          <a:xfrm>
            <a:off x="7155000" y="3236760"/>
            <a:ext cx="160200" cy="1731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 rot="21391800">
            <a:off x="5100480" y="3430440"/>
            <a:ext cx="15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57C3-F359-48DB-861B-8C46C02D5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following figure identif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rds, radii, and diameters.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35" name="Object 58"/>
          <p:cNvGraphicFramePr/>
          <p:nvPr/>
        </p:nvGraphicFramePr>
        <p:xfrm>
          <a:off x="5603760" y="1920960"/>
          <a:ext cx="2183040" cy="63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3760" y="1920960"/>
                    <a:ext cx="218304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0"/>
          <p:cNvGraphicFramePr/>
          <p:nvPr/>
        </p:nvGraphicFramePr>
        <p:xfrm>
          <a:off x="5595840" y="3564000"/>
          <a:ext cx="17128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5840" y="3564000"/>
                    <a:ext cx="17128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27"/>
          <p:cNvSpPr/>
          <p:nvPr/>
        </p:nvSpPr>
        <p:spPr>
          <a:xfrm>
            <a:off x="3876840" y="1979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4094280" y="3478320"/>
            <a:ext cx="12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ad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3944880" y="5130720"/>
            <a:ext cx="18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iame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8"/>
          <p:cNvGrpSpPr/>
          <p:nvPr/>
        </p:nvGrpSpPr>
        <p:grpSpPr>
          <a:xfrm>
            <a:off x="452520" y="2081160"/>
            <a:ext cx="3081240" cy="3345840"/>
            <a:chOff x="452520" y="2081160"/>
            <a:chExt cx="3081240" cy="3345840"/>
          </a:xfrm>
        </p:grpSpPr>
        <p:sp>
          <p:nvSpPr>
            <p:cNvPr id="143" name="AutoShape 37"/>
            <p:cNvSpPr/>
            <p:nvPr/>
          </p:nvSpPr>
          <p:spPr>
            <a:xfrm>
              <a:off x="452520" y="2092320"/>
              <a:ext cx="3081240" cy="31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9"/>
            <p:cNvSpPr/>
            <p:nvPr/>
          </p:nvSpPr>
          <p:spPr>
            <a:xfrm>
              <a:off x="612720" y="2241360"/>
              <a:ext cx="2806200" cy="2806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0"/>
            <p:cNvSpPr/>
            <p:nvPr/>
          </p:nvSpPr>
          <p:spPr>
            <a:xfrm flipH="1">
              <a:off x="737640" y="2355840"/>
              <a:ext cx="1821960" cy="68724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41"/>
            <p:cNvSpPr/>
            <p:nvPr/>
          </p:nvSpPr>
          <p:spPr>
            <a:xfrm>
              <a:off x="2009520" y="3638520"/>
              <a:ext cx="1134720" cy="82548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2"/>
            <p:cNvSpPr/>
            <p:nvPr/>
          </p:nvSpPr>
          <p:spPr>
            <a:xfrm flipH="1">
              <a:off x="1402920" y="2355840"/>
              <a:ext cx="1156680" cy="2543040"/>
            </a:xfrm>
            <a:prstGeom prst="line">
              <a:avLst/>
            </a:prstGeom>
            <a:ln w="34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3"/>
            <p:cNvSpPr/>
            <p:nvPr/>
          </p:nvSpPr>
          <p:spPr>
            <a:xfrm flipH="1">
              <a:off x="1849320" y="2608200"/>
              <a:ext cx="1110960" cy="242892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4"/>
            <p:cNvSpPr/>
            <p:nvPr/>
          </p:nvSpPr>
          <p:spPr>
            <a:xfrm>
              <a:off x="1987560" y="3616200"/>
              <a:ext cx="5652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1758960" y="3477960"/>
              <a:ext cx="3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46"/>
            <p:cNvSpPr/>
            <p:nvPr/>
          </p:nvSpPr>
          <p:spPr>
            <a:xfrm>
              <a:off x="3120840" y="4441680"/>
              <a:ext cx="568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3213000" y="43956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48"/>
            <p:cNvSpPr/>
            <p:nvPr/>
          </p:nvSpPr>
          <p:spPr>
            <a:xfrm>
              <a:off x="715680" y="3020760"/>
              <a:ext cx="568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520200" y="28256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0"/>
            <p:cNvSpPr/>
            <p:nvPr/>
          </p:nvSpPr>
          <p:spPr>
            <a:xfrm>
              <a:off x="2536560" y="2333520"/>
              <a:ext cx="568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>
              <a:off x="2582640" y="2081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2"/>
            <p:cNvSpPr/>
            <p:nvPr/>
          </p:nvSpPr>
          <p:spPr>
            <a:xfrm>
              <a:off x="1379520" y="4876560"/>
              <a:ext cx="5832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1311120" y="49449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4"/>
            <p:cNvSpPr/>
            <p:nvPr/>
          </p:nvSpPr>
          <p:spPr>
            <a:xfrm>
              <a:off x="2938320" y="2584440"/>
              <a:ext cx="568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2995200" y="2367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6"/>
            <p:cNvSpPr/>
            <p:nvPr/>
          </p:nvSpPr>
          <p:spPr>
            <a:xfrm>
              <a:off x="1827000" y="5014800"/>
              <a:ext cx="568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1769400" y="50608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3" name="Object 62"/>
          <p:cNvGraphicFramePr/>
          <p:nvPr/>
        </p:nvGraphicFramePr>
        <p:xfrm>
          <a:off x="5854680" y="5187960"/>
          <a:ext cx="54144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4680" y="5187960"/>
                    <a:ext cx="541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298A-F137-4421-8C16-0546028A2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795840" y="1889280"/>
            <a:ext cx="45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s that have congruent rad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5688000" y="2428920"/>
            <a:ext cx="1143000" cy="10666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7294680" y="2511360"/>
            <a:ext cx="1143000" cy="10670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 flipV="1">
            <a:off x="6262560" y="263700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7800840" y="3100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130800" y="2482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7832880" y="267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3543480" y="378612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s that lie in the same plane and have the same 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3"/>
          <p:cNvGrpSpPr/>
          <p:nvPr/>
        </p:nvGrpSpPr>
        <p:grpSpPr>
          <a:xfrm>
            <a:off x="888840" y="4367160"/>
            <a:ext cx="1828800" cy="1828800"/>
            <a:chOff x="888840" y="4367160"/>
            <a:chExt cx="1828800" cy="1828800"/>
          </a:xfrm>
        </p:grpSpPr>
        <p:sp>
          <p:nvSpPr>
            <p:cNvPr id="176" name="Oval 2"/>
            <p:cNvSpPr/>
            <p:nvPr/>
          </p:nvSpPr>
          <p:spPr>
            <a:xfrm>
              <a:off x="888840" y="4367160"/>
              <a:ext cx="1828800" cy="1828800"/>
            </a:xfrm>
            <a:prstGeom prst="ellipse">
              <a:avLst/>
            </a:prstGeom>
            <a:solidFill>
              <a:srgbClr val="d6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"/>
            <p:cNvSpPr/>
            <p:nvPr/>
          </p:nvSpPr>
          <p:spPr>
            <a:xfrm>
              <a:off x="1081080" y="4578120"/>
              <a:ext cx="1447560" cy="137160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"/>
            <p:cNvSpPr/>
            <p:nvPr/>
          </p:nvSpPr>
          <p:spPr>
            <a:xfrm>
              <a:off x="1309680" y="4806720"/>
              <a:ext cx="990360" cy="914400"/>
            </a:xfrm>
            <a:prstGeom prst="ellipse">
              <a:avLst/>
            </a:prstGeom>
            <a:solidFill>
              <a:srgbClr val="97cd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"/>
            <p:cNvSpPr/>
            <p:nvPr/>
          </p:nvSpPr>
          <p:spPr>
            <a:xfrm>
              <a:off x="1690560" y="5187960"/>
              <a:ext cx="152280" cy="152280"/>
            </a:xfrm>
            <a:prstGeom prst="ellipse">
              <a:avLst/>
            </a:prstGeom>
            <a:solidFill>
              <a:srgbClr val="33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21"/>
          <p:cNvSpPr/>
          <p:nvPr/>
        </p:nvSpPr>
        <p:spPr>
          <a:xfrm>
            <a:off x="914400" y="43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318960" y="375912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oncentric circl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90520" y="1836720"/>
            <a:ext cx="36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ongruent Circl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79A1-CC4A-492D-85B8-E748C135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4240" y="2533680"/>
            <a:ext cx="62341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lygon inside the circle whose vertices li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n the 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6350040" y="1657440"/>
            <a:ext cx="2392200" cy="24159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0720" y="2019240"/>
            <a:ext cx="36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nscribed Polyg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80880" y="3986280"/>
            <a:ext cx="43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ircumscribed Polyg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26880" y="4599000"/>
            <a:ext cx="438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lygon whose sides ar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angent to a 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0"/>
          <p:cNvGrpSpPr/>
          <p:nvPr/>
        </p:nvGrpSpPr>
        <p:grpSpPr>
          <a:xfrm>
            <a:off x="4422600" y="3457440"/>
            <a:ext cx="3770640" cy="3008520"/>
            <a:chOff x="4422600" y="3457440"/>
            <a:chExt cx="3770640" cy="3008520"/>
          </a:xfrm>
        </p:grpSpPr>
        <p:sp>
          <p:nvSpPr>
            <p:cNvPr id="192" name="AutoShape 9"/>
            <p:cNvSpPr/>
            <p:nvPr/>
          </p:nvSpPr>
          <p:spPr>
            <a:xfrm>
              <a:off x="4422600" y="3457440"/>
              <a:ext cx="3770640" cy="30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5143680" y="4363920"/>
              <a:ext cx="1668240" cy="166860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2"/>
            <p:cNvSpPr/>
            <p:nvPr/>
          </p:nvSpPr>
          <p:spPr>
            <a:xfrm flipH="1">
              <a:off x="4691160" y="3726000"/>
              <a:ext cx="1092240" cy="2184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>
              <a:off x="5783400" y="3726000"/>
              <a:ext cx="2120760" cy="24508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>
              <a:off x="4691160" y="5910120"/>
              <a:ext cx="3213000" cy="266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7862760" y="6135840"/>
              <a:ext cx="103320" cy="102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5742000" y="3684600"/>
              <a:ext cx="1015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4649760" y="5869080"/>
              <a:ext cx="1033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8"/>
            <p:cNvSpPr/>
            <p:nvPr/>
          </p:nvSpPr>
          <p:spPr>
            <a:xfrm>
              <a:off x="5925960" y="5146560"/>
              <a:ext cx="1033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9"/>
            <p:cNvSpPr/>
            <p:nvPr/>
          </p:nvSpPr>
          <p:spPr>
            <a:xfrm>
              <a:off x="6545160" y="4611600"/>
              <a:ext cx="1033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5205240" y="4776840"/>
              <a:ext cx="103320" cy="102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5864400" y="5970600"/>
              <a:ext cx="10296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BFFF-0595-44D4-9597-60ADDC34A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RCS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44240" y="1809360"/>
            <a:ext cx="722484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t or portion on the circle from some point B to C is called an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r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5699160" y="2190600"/>
            <a:ext cx="2913120" cy="2116440"/>
            <a:chOff x="5699160" y="2190600"/>
            <a:chExt cx="2913120" cy="2116440"/>
          </a:xfrm>
        </p:grpSpPr>
        <p:sp>
          <p:nvSpPr>
            <p:cNvPr id="209" name="AutoShape 5"/>
            <p:cNvSpPr/>
            <p:nvPr/>
          </p:nvSpPr>
          <p:spPr>
            <a:xfrm>
              <a:off x="5699160" y="2190600"/>
              <a:ext cx="2913120" cy="21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7"/>
            <p:cNvSpPr/>
            <p:nvPr/>
          </p:nvSpPr>
          <p:spPr>
            <a:xfrm>
              <a:off x="5719680" y="2409480"/>
              <a:ext cx="1875960" cy="1877040"/>
            </a:xfrm>
            <a:prstGeom prst="ellipse">
              <a:avLst/>
            </a:prstGeom>
            <a:noFill/>
            <a:ln w="0">
              <a:solidFill>
                <a:srgbClr val="010101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rc 8"/>
            <p:cNvSpPr/>
            <p:nvPr/>
          </p:nvSpPr>
          <p:spPr>
            <a:xfrm>
              <a:off x="5719680" y="2409480"/>
              <a:ext cx="1875960" cy="1877040"/>
            </a:xfrm>
            <a:prstGeom prst="pie">
              <a:avLst/>
            </a:prstGeom>
            <a:noFill/>
            <a:ln w="0">
              <a:solidFill>
                <a:srgbClr val="010101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rc 9"/>
            <p:cNvSpPr/>
            <p:nvPr/>
          </p:nvSpPr>
          <p:spPr>
            <a:xfrm>
              <a:off x="6657840" y="2434320"/>
              <a:ext cx="885960" cy="913320"/>
            </a:xfrm>
            <a:prstGeom prst="pie">
              <a:avLst/>
            </a:prstGeom>
            <a:noFill/>
            <a:ln w="23760">
              <a:solidFill>
                <a:srgbClr val="c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0"/>
            <p:cNvSpPr/>
            <p:nvPr/>
          </p:nvSpPr>
          <p:spPr>
            <a:xfrm>
              <a:off x="6640560" y="3330720"/>
              <a:ext cx="33480" cy="33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6483600" y="3166560"/>
              <a:ext cx="185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2"/>
            <p:cNvSpPr/>
            <p:nvPr/>
          </p:nvSpPr>
          <p:spPr>
            <a:xfrm>
              <a:off x="6858360" y="2422800"/>
              <a:ext cx="34560" cy="33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6933240" y="220932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4"/>
            <p:cNvSpPr/>
            <p:nvPr/>
          </p:nvSpPr>
          <p:spPr>
            <a:xfrm>
              <a:off x="7520760" y="3029760"/>
              <a:ext cx="33480" cy="345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7595640" y="28576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8066160" y="3023640"/>
              <a:ext cx="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0" name="Object 19"/>
          <p:cNvGraphicFramePr/>
          <p:nvPr/>
        </p:nvGraphicFramePr>
        <p:xfrm>
          <a:off x="1849320" y="2825640"/>
          <a:ext cx="5940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9320" y="2825640"/>
                    <a:ext cx="594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20"/>
          <p:cNvSpPr/>
          <p:nvPr/>
        </p:nvSpPr>
        <p:spPr>
          <a:xfrm>
            <a:off x="314280" y="180180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rc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165240" y="4394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emicir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1938240" y="440856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c that is equal to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2"/>
          <p:cNvSpPr/>
          <p:nvPr/>
        </p:nvSpPr>
        <p:spPr>
          <a:xfrm>
            <a:off x="233280" y="2933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7"/>
          <p:cNvGrpSpPr/>
          <p:nvPr/>
        </p:nvGrpSpPr>
        <p:grpSpPr>
          <a:xfrm>
            <a:off x="5981760" y="4527720"/>
            <a:ext cx="1657440" cy="1657080"/>
            <a:chOff x="5981760" y="4527720"/>
            <a:chExt cx="1657440" cy="1657080"/>
          </a:xfrm>
        </p:grpSpPr>
        <p:sp>
          <p:nvSpPr>
            <p:cNvPr id="227" name="AutoShape 46"/>
            <p:cNvSpPr/>
            <p:nvPr/>
          </p:nvSpPr>
          <p:spPr>
            <a:xfrm>
              <a:off x="5981760" y="4527720"/>
              <a:ext cx="165744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rc 48"/>
            <p:cNvSpPr/>
            <p:nvPr/>
          </p:nvSpPr>
          <p:spPr>
            <a:xfrm>
              <a:off x="6105600" y="4651200"/>
              <a:ext cx="1409760" cy="8971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49"/>
            <p:cNvSpPr/>
            <p:nvPr/>
          </p:nvSpPr>
          <p:spPr>
            <a:xfrm>
              <a:off x="6086520" y="4651200"/>
              <a:ext cx="1438200" cy="143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50"/>
            <p:cNvSpPr/>
            <p:nvPr/>
          </p:nvSpPr>
          <p:spPr>
            <a:xfrm>
              <a:off x="6781680" y="534672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1"/>
            <p:cNvSpPr/>
            <p:nvPr/>
          </p:nvSpPr>
          <p:spPr>
            <a:xfrm>
              <a:off x="6698160" y="5165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2"/>
            <p:cNvSpPr/>
            <p:nvPr/>
          </p:nvSpPr>
          <p:spPr>
            <a:xfrm>
              <a:off x="6086520" y="5184720"/>
              <a:ext cx="47520" cy="47520"/>
            </a:xfrm>
            <a:prstGeom prst="ellipse">
              <a:avLst/>
            </a:prstGeom>
            <a:solidFill>
              <a:srgbClr val="33cc33"/>
            </a:solidFill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3"/>
            <p:cNvSpPr/>
            <p:nvPr/>
          </p:nvSpPr>
          <p:spPr>
            <a:xfrm>
              <a:off x="6800760" y="4632480"/>
              <a:ext cx="47880" cy="4752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4"/>
            <p:cNvSpPr/>
            <p:nvPr/>
          </p:nvSpPr>
          <p:spPr>
            <a:xfrm>
              <a:off x="7467480" y="5527800"/>
              <a:ext cx="47880" cy="4752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55"/>
          <p:cNvSpPr/>
          <p:nvPr/>
        </p:nvSpPr>
        <p:spPr>
          <a:xfrm>
            <a:off x="5718240" y="498168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6783480" y="4272120"/>
            <a:ext cx="3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7"/>
          <p:cNvSpPr/>
          <p:nvPr/>
        </p:nvSpPr>
        <p:spPr>
          <a:xfrm>
            <a:off x="7494480" y="5364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9"/>
          <p:cNvSpPr/>
          <p:nvPr/>
        </p:nvSpPr>
        <p:spPr>
          <a:xfrm>
            <a:off x="290520" y="536580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60"/>
          <p:cNvGraphicFramePr/>
          <p:nvPr/>
        </p:nvGraphicFramePr>
        <p:xfrm>
          <a:off x="1963800" y="5219640"/>
          <a:ext cx="89208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3800" y="5219640"/>
                    <a:ext cx="8920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CBCF-D7A8-476C-BCE0-FFBE8A4A7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or Arc &amp; Major Arc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44" name="Object 18"/>
          <p:cNvGraphicFramePr/>
          <p:nvPr/>
        </p:nvGraphicFramePr>
        <p:xfrm>
          <a:off x="1998720" y="2771640"/>
          <a:ext cx="64620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8720" y="2771640"/>
                    <a:ext cx="646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4"/>
          <p:cNvSpPr/>
          <p:nvPr/>
        </p:nvSpPr>
        <p:spPr>
          <a:xfrm>
            <a:off x="272880" y="1814400"/>
            <a:ext cx="19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inor Arc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025720" y="1789200"/>
            <a:ext cx="55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nor arc is an arc that i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less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19240" y="22208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nor arc is named using its endpoints with an “arc”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6400800" y="2479680"/>
            <a:ext cx="2114640" cy="2087640"/>
            <a:chOff x="6400800" y="2479680"/>
            <a:chExt cx="2114640" cy="2087640"/>
          </a:xfrm>
        </p:grpSpPr>
        <p:sp>
          <p:nvSpPr>
            <p:cNvPr id="250" name="AutoShape 8"/>
            <p:cNvSpPr/>
            <p:nvPr/>
          </p:nvSpPr>
          <p:spPr>
            <a:xfrm>
              <a:off x="6400800" y="2479680"/>
              <a:ext cx="211464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rc 10"/>
            <p:cNvSpPr/>
            <p:nvPr/>
          </p:nvSpPr>
          <p:spPr>
            <a:xfrm>
              <a:off x="7439040" y="2997360"/>
              <a:ext cx="906480" cy="925200"/>
            </a:xfrm>
            <a:prstGeom prst="pie">
              <a:avLst/>
            </a:prstGeom>
            <a:noFill/>
            <a:ln w="39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6532560" y="2611440"/>
              <a:ext cx="1825560" cy="18241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2"/>
            <p:cNvSpPr/>
            <p:nvPr/>
          </p:nvSpPr>
          <p:spPr>
            <a:xfrm>
              <a:off x="7412040" y="3490920"/>
              <a:ext cx="65160" cy="65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3"/>
            <p:cNvSpPr/>
            <p:nvPr/>
          </p:nvSpPr>
          <p:spPr>
            <a:xfrm>
              <a:off x="8226360" y="3897360"/>
              <a:ext cx="65160" cy="66600"/>
            </a:xfrm>
            <a:prstGeom prst="ellipse">
              <a:avLst/>
            </a:prstGeom>
            <a:solidFill>
              <a:srgbClr val="cc33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4"/>
            <p:cNvSpPr/>
            <p:nvPr/>
          </p:nvSpPr>
          <p:spPr>
            <a:xfrm>
              <a:off x="8161560" y="2965320"/>
              <a:ext cx="64800" cy="6516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15"/>
          <p:cNvSpPr/>
          <p:nvPr/>
        </p:nvSpPr>
        <p:spPr>
          <a:xfrm>
            <a:off x="8213760" y="2759040"/>
            <a:ext cx="3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8302680" y="3787920"/>
            <a:ext cx="3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18960" y="28749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230040" y="3770280"/>
            <a:ext cx="17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ajor Ar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068560" y="3787920"/>
            <a:ext cx="42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jor arc is an arc that i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reater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2757600" y="4657680"/>
            <a:ext cx="6038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jor arc is named using its endpoints along with another point on the arc (in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0"/>
          <p:cNvSpPr/>
          <p:nvPr/>
        </p:nvSpPr>
        <p:spPr>
          <a:xfrm>
            <a:off x="189000" y="497988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1"/>
          <p:cNvSpPr/>
          <p:nvPr/>
        </p:nvSpPr>
        <p:spPr>
          <a:xfrm>
            <a:off x="1349280" y="417996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2"/>
          <p:cNvSpPr/>
          <p:nvPr/>
        </p:nvSpPr>
        <p:spPr>
          <a:xfrm>
            <a:off x="1832040" y="5913360"/>
            <a:ext cx="3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3"/>
          <p:cNvSpPr/>
          <p:nvPr/>
        </p:nvSpPr>
        <p:spPr>
          <a:xfrm>
            <a:off x="4419720" y="564048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64"/>
          <p:cNvGraphicFramePr/>
          <p:nvPr/>
        </p:nvGraphicFramePr>
        <p:xfrm>
          <a:off x="6167520" y="5584680"/>
          <a:ext cx="792000" cy="5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7520" y="5584680"/>
                    <a:ext cx="7920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Group 69"/>
          <p:cNvGrpSpPr/>
          <p:nvPr/>
        </p:nvGrpSpPr>
        <p:grpSpPr>
          <a:xfrm>
            <a:off x="372960" y="4373640"/>
            <a:ext cx="1901520" cy="1879200"/>
            <a:chOff x="372960" y="4373640"/>
            <a:chExt cx="1901520" cy="1879200"/>
          </a:xfrm>
        </p:grpSpPr>
        <p:sp>
          <p:nvSpPr>
            <p:cNvPr id="269" name="AutoShape 68"/>
            <p:cNvSpPr/>
            <p:nvPr/>
          </p:nvSpPr>
          <p:spPr>
            <a:xfrm>
              <a:off x="372960" y="4373640"/>
              <a:ext cx="190152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70"/>
            <p:cNvSpPr/>
            <p:nvPr/>
          </p:nvSpPr>
          <p:spPr>
            <a:xfrm>
              <a:off x="514800" y="4515480"/>
              <a:ext cx="1617480" cy="14900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71"/>
            <p:cNvSpPr/>
            <p:nvPr/>
          </p:nvSpPr>
          <p:spPr>
            <a:xfrm>
              <a:off x="492840" y="4515480"/>
              <a:ext cx="1650600" cy="1650240"/>
            </a:xfrm>
            <a:prstGeom prst="ellipse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72"/>
            <p:cNvSpPr/>
            <p:nvPr/>
          </p:nvSpPr>
          <p:spPr>
            <a:xfrm>
              <a:off x="1290960" y="5313600"/>
              <a:ext cx="54360" cy="543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3"/>
            <p:cNvSpPr/>
            <p:nvPr/>
          </p:nvSpPr>
          <p:spPr>
            <a:xfrm>
              <a:off x="1148760" y="5105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74"/>
            <p:cNvSpPr/>
            <p:nvPr/>
          </p:nvSpPr>
          <p:spPr>
            <a:xfrm>
              <a:off x="492840" y="5127480"/>
              <a:ext cx="54360" cy="5436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75"/>
            <p:cNvSpPr/>
            <p:nvPr/>
          </p:nvSpPr>
          <p:spPr>
            <a:xfrm>
              <a:off x="1312920" y="4493520"/>
              <a:ext cx="54360" cy="5472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76"/>
            <p:cNvSpPr/>
            <p:nvPr/>
          </p:nvSpPr>
          <p:spPr>
            <a:xfrm>
              <a:off x="1761120" y="5979960"/>
              <a:ext cx="54360" cy="54360"/>
            </a:xfrm>
            <a:prstGeom prst="ellipse">
              <a:avLst/>
            </a:prstGeom>
            <a:solidFill>
              <a:srgbClr val="00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63D3-0C79-446C-BA75-FDB7D810A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ARCS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3560" y="1905120"/>
            <a:ext cx="85914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 minor arc, a major arc, and a semicircle, given that           is a diame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5892840" y="2692440"/>
          <a:ext cx="269568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92840" y="2692440"/>
                    <a:ext cx="26956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3" name="Group 6"/>
          <p:cNvGrpSpPr/>
          <p:nvPr/>
        </p:nvGrpSpPr>
        <p:grpSpPr>
          <a:xfrm>
            <a:off x="801720" y="3143160"/>
            <a:ext cx="2672280" cy="2414520"/>
            <a:chOff x="801720" y="3143160"/>
            <a:chExt cx="2672280" cy="2414520"/>
          </a:xfrm>
        </p:grpSpPr>
        <p:sp>
          <p:nvSpPr>
            <p:cNvPr id="284" name="AutoShape 5"/>
            <p:cNvSpPr/>
            <p:nvPr/>
          </p:nvSpPr>
          <p:spPr>
            <a:xfrm>
              <a:off x="801720" y="3143160"/>
              <a:ext cx="2638440" cy="24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7"/>
            <p:cNvSpPr/>
            <p:nvPr/>
          </p:nvSpPr>
          <p:spPr>
            <a:xfrm>
              <a:off x="932040" y="3165480"/>
              <a:ext cx="2371680" cy="2370240"/>
            </a:xfrm>
            <a:prstGeom prst="ellipse">
              <a:avLst/>
            </a:prstGeom>
            <a:noFill/>
            <a:ln w="2844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8"/>
            <p:cNvSpPr/>
            <p:nvPr/>
          </p:nvSpPr>
          <p:spPr>
            <a:xfrm flipV="1">
              <a:off x="1003320" y="3951360"/>
              <a:ext cx="2220840" cy="7920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9"/>
            <p:cNvSpPr/>
            <p:nvPr/>
          </p:nvSpPr>
          <p:spPr>
            <a:xfrm>
              <a:off x="2098800" y="4332240"/>
              <a:ext cx="36360" cy="36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0"/>
            <p:cNvSpPr/>
            <p:nvPr/>
          </p:nvSpPr>
          <p:spPr>
            <a:xfrm>
              <a:off x="2026800" y="43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1"/>
            <p:cNvSpPr/>
            <p:nvPr/>
          </p:nvSpPr>
          <p:spPr>
            <a:xfrm>
              <a:off x="3209760" y="393552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"/>
            <p:cNvSpPr/>
            <p:nvPr/>
          </p:nvSpPr>
          <p:spPr>
            <a:xfrm>
              <a:off x="988920" y="4729320"/>
              <a:ext cx="3672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3"/>
            <p:cNvSpPr/>
            <p:nvPr/>
          </p:nvSpPr>
          <p:spPr>
            <a:xfrm>
              <a:off x="823680" y="47800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4"/>
            <p:cNvSpPr/>
            <p:nvPr/>
          </p:nvSpPr>
          <p:spPr>
            <a:xfrm>
              <a:off x="3209760" y="393552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3288960" y="3798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6"/>
            <p:cNvSpPr/>
            <p:nvPr/>
          </p:nvSpPr>
          <p:spPr>
            <a:xfrm>
              <a:off x="1190520" y="3575160"/>
              <a:ext cx="3672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"/>
            <p:cNvSpPr/>
            <p:nvPr/>
          </p:nvSpPr>
          <p:spPr>
            <a:xfrm>
              <a:off x="1031760" y="33526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"/>
            <p:cNvSpPr/>
            <p:nvPr/>
          </p:nvSpPr>
          <p:spPr>
            <a:xfrm>
              <a:off x="2921040" y="518328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9"/>
            <p:cNvSpPr/>
            <p:nvPr/>
          </p:nvSpPr>
          <p:spPr>
            <a:xfrm>
              <a:off x="3000240" y="52340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0"/>
          <p:cNvSpPr/>
          <p:nvPr/>
        </p:nvSpPr>
        <p:spPr>
          <a:xfrm>
            <a:off x="3597120" y="270036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inor Ar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23"/>
          <p:cNvGraphicFramePr/>
          <p:nvPr/>
        </p:nvGraphicFramePr>
        <p:xfrm>
          <a:off x="7896240" y="1824120"/>
          <a:ext cx="66348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6240" y="1824120"/>
                    <a:ext cx="6634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25"/>
          <p:cNvSpPr/>
          <p:nvPr/>
        </p:nvSpPr>
        <p:spPr>
          <a:xfrm>
            <a:off x="4319640" y="450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6"/>
          <p:cNvSpPr/>
          <p:nvPr/>
        </p:nvSpPr>
        <p:spPr>
          <a:xfrm>
            <a:off x="3481560" y="3946680"/>
            <a:ext cx="21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ajor Ar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27"/>
          <p:cNvGraphicFramePr/>
          <p:nvPr/>
        </p:nvGraphicFramePr>
        <p:xfrm>
          <a:off x="5402160" y="3895560"/>
          <a:ext cx="355284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2160" y="3895560"/>
                    <a:ext cx="355284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28"/>
          <p:cNvSpPr/>
          <p:nvPr/>
        </p:nvSpPr>
        <p:spPr>
          <a:xfrm>
            <a:off x="3484440" y="516744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emicirc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29"/>
          <p:cNvGraphicFramePr/>
          <p:nvPr/>
        </p:nvGraphicFramePr>
        <p:xfrm>
          <a:off x="5502240" y="5099040"/>
          <a:ext cx="346716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2240" y="5099040"/>
                    <a:ext cx="3467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6:12:09Z</dcterms:created>
  <dc:creator>Ed</dc:creator>
  <dc:description/>
  <dc:language>en-US</dc:language>
  <cp:lastModifiedBy>CCSD</cp:lastModifiedBy>
  <dcterms:modified xsi:type="dcterms:W3CDTF">2011-05-05T17:31:26Z</dcterms:modified>
  <cp:revision>37</cp:revision>
  <dc:subject/>
  <dc:title>Circles</dc:title>
</cp:coreProperties>
</file>